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82D-9CDD-4CB7-A90D-BE7DE0C6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431-2A1C-4A21-954B-6F1A5B8C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072-EE42-4509-960F-B924A11A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0AA-F578-48A3-85A9-4EAAC36D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EF01-0877-4B4B-8CC8-4F2A82A8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1E86-6E60-4F4E-BD0D-CF08C28E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9660-82C4-4100-AA92-5A4EDABC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B8C4-0A3A-47D3-8DD3-DF9EA17E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6378-B75A-4684-87D4-F75DEDFD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BAA5-AA78-4FEC-8F16-2C88D2E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2407-657B-4502-9A76-F5FB295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D0C-B3B6-4EDE-8D6D-B2710E9C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FDE8-44BE-4DDA-A359-2DD4774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E6BB-D0F6-409A-AD15-45F3F12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3CE9-EA57-4C6B-A919-5AE132DD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2FCE-40A9-4885-93DE-B1E6DFFA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4C2A-125E-421F-8071-8EB91526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EE16-AAF2-4D4A-A493-4F9E4B2F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59D6-D40D-4EF5-A6BD-A6BF7996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5250-AA53-45C5-9260-5A033585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BB47E-C033-4F0D-9A42-F6AF5283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7CC9-870B-46B9-B0EB-87FE65AA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52D-5453-4A7A-8EB7-8DDA0228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D719B-3896-4810-9E97-45ED2207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DA00-E4B6-4C1F-9CAC-B641BAE1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BAB0-E9DA-497F-931F-D1811887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5C2E3-5FD9-4F2C-A362-9EF6DAFA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47AE-6667-461E-963E-7FC90738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D9C7-0804-4631-8945-8AFE2A21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3EE6-5630-487F-9B91-F6E4809F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CFFC6-2B3A-4EDC-AB3C-372253A2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39A9-CC2A-44AB-B0EB-3A32C498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994A-AD13-4070-9725-EE4FAB7B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2AF-2DD3-44CA-896E-92AF0D13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1A59-AE5B-45A6-B7A1-28601FF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F83C-A75D-42C3-89C1-6AABFE9E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4217-6C94-464D-B78A-7EB52AE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D1E2B-6A55-4629-B280-9EDB9C0C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5724-1D2B-4E65-B9EA-08B5AFF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3BD6-43ED-4928-B403-1D0C6FC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DF100-4813-408C-A91F-9855DCA9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B0E2-CDE6-4A60-ACE8-45339D42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8C4E-2E1D-4AC4-873A-0A01C88B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2DF-2AE4-4F65-825C-13BBB0EF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EFF-7B6D-480D-BE0C-FE58F255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51F-E67E-4BBC-87DE-DFE69F4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3F6-55D7-4C46-8095-AD64198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C74-9EF4-4BF2-9B8D-F00131E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0DA2-D25F-4AC4-8A2A-788A1CE774F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C6BF-D471-433A-91C6-6FE31CBFE91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12B3-DA71-41DC-8433-AFA58282FE2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C17-7871-477C-BC65-3CAC8E8257D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aphorisme.ru/by-authors/pifagor/?q=28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969840" y="2133720"/>
            <a:ext cx="7174080" cy="1792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611280" y="404640"/>
            <a:ext cx="8137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БОУ Покровская СОШ №2 с УИОП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. Покровск, Хангаласского улуса республики Саха (Якут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042920" y="4941720"/>
            <a:ext cx="7772400" cy="18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р: Егорова Ольга Иванов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истории и обществозн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БОУ ПСОШ №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Объект 3" descr=""/>
          <p:cNvPicPr/>
          <p:nvPr/>
        </p:nvPicPr>
        <p:blipFill>
          <a:blip r:embed="rId1"/>
          <a:stretch/>
        </p:blipFill>
        <p:spPr>
          <a:xfrm>
            <a:off x="249120" y="334800"/>
            <a:ext cx="864576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Объект 6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3520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985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500120"/>
          </a:xfrm>
          <a:prstGeom prst="rect">
            <a:avLst/>
          </a:prstGeom>
          <a:ln w="0">
            <a:noFill/>
          </a:ln>
        </p:spPr>
      </p:pic>
      <p:sp>
        <p:nvSpPr>
          <p:cNvPr id="233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6c7aa"/>
                </a:solidFill>
                <a:uFillTx/>
                <a:latin typeface="Times New Roman"/>
                <a:ea typeface="Arial"/>
                <a:hlinkClick r:id="rId2"/>
              </a:rPr>
              <a:t>http://www.aphorisme.ru/by-authors/pifagor/?q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aphorism-citation.ru/index/0-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www.c-cafe.ru/days/bio/af/00000321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citaty.su/aforizmy-i-citaty-stendal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my.mail.ru/community/cat_planet/251A128875EE77E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http://www.aphorisme.ru/by-authors/turgenev/?q=9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516360" cy="200484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3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2440080" cy="3475080"/>
          </a:xfrm>
          <a:prstGeom prst="rect">
            <a:avLst/>
          </a:prstGeom>
          <a:ln w="0">
            <a:noFill/>
          </a:ln>
        </p:spPr>
      </p:pic>
      <p:pic>
        <p:nvPicPr>
          <p:cNvPr id="219" name="Заголовок 1" descr=""/>
          <p:cNvPicPr/>
          <p:nvPr/>
        </p:nvPicPr>
        <p:blipFill>
          <a:blip r:embed="rId3"/>
          <a:stretch/>
        </p:blipFill>
        <p:spPr>
          <a:xfrm>
            <a:off x="469800" y="695160"/>
            <a:ext cx="55404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8676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Объект 3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17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Объект 3" descr=""/>
          <p:cNvPicPr/>
          <p:nvPr/>
        </p:nvPicPr>
        <p:blipFill>
          <a:blip r:embed="rId1"/>
          <a:stretch/>
        </p:blipFill>
        <p:spPr>
          <a:xfrm>
            <a:off x="987480" y="1523880"/>
            <a:ext cx="7497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Объект 3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1052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Объект 3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83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472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Объект 3" descr=""/>
          <p:cNvPicPr/>
          <p:nvPr/>
        </p:nvPicPr>
        <p:blipFill>
          <a:blip r:embed="rId1"/>
          <a:stretch/>
        </p:blipFill>
        <p:spPr>
          <a:xfrm>
            <a:off x="3708360" y="3141720"/>
            <a:ext cx="5216400" cy="3475080"/>
          </a:xfrm>
          <a:prstGeom prst="rect">
            <a:avLst/>
          </a:prstGeom>
          <a:ln w="0">
            <a:noFill/>
          </a:ln>
        </p:spPr>
      </p:pic>
      <p:pic>
        <p:nvPicPr>
          <p:cNvPr id="228" name="Объект 3" descr=""/>
          <p:cNvPicPr/>
          <p:nvPr/>
        </p:nvPicPr>
        <p:blipFill>
          <a:blip r:embed="rId2"/>
          <a:stretch/>
        </p:blipFill>
        <p:spPr>
          <a:xfrm>
            <a:off x="250920" y="0"/>
            <a:ext cx="55530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0T20:21:53Z</dcterms:created>
  <dc:creator>иван</dc:creator>
  <dc:description/>
  <dc:language>en-US</dc:language>
  <cp:lastModifiedBy>Windows User</cp:lastModifiedBy>
  <dcterms:modified xsi:type="dcterms:W3CDTF">2020-11-19T08:45:13Z</dcterms:modified>
  <cp:revision>12</cp:revision>
  <dc:subject/>
  <dc:title>Семья или карьера</dc:title>
</cp:coreProperties>
</file>